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3.png" ContentType="image/png"/>
  <Override PartName="/ppt/media/image16.jpeg" ContentType="image/jpeg"/>
  <Override PartName="/ppt/media/image15.wmf" ContentType="image/x-wmf"/>
  <Override PartName="/ppt/media/image14.jpeg" ContentType="image/jpeg"/>
  <Override PartName="/ppt/media/image9.jpeg" ContentType="image/jpeg"/>
  <Override PartName="/ppt/media/image1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4.jpeg" ContentType="image/jpeg"/>
  <Override PartName="/ppt/media/image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A628-1E5F-4FDC-9DA0-320B0ACAB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47CD-D117-4319-9333-CB8DFC125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8B87-3C5C-49A9-B387-CEFD650DCA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purposefully conn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8E1E-4A57-488E-8DFD-EC7C07589D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FFD-C234-4880-9FA8-ADA5B25105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B09-F3D0-47AD-A57E-B6C2D6DEFD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358A-60BF-415B-BEFF-D46E12BFFC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651B-F50A-4640-A32D-55E7B61979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7F7B-1E5F-4BE6-95CD-584B0F7DA1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731B-6DAA-4E37-8F98-4D6356ACB8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D1D1-5693-4EB9-8050-62673FED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0A6D-EEF5-47B8-9E4D-83AC17A0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EFC5-C175-4304-9C78-F9226053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B56D-BC45-4BE5-AD7F-EA002BDD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0975-0EDB-4856-BCF8-510E6B22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2C0B-17D1-455D-87EC-F2049AE2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5918-8CB1-4E52-B338-084772B4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EA3-0FDE-4B6B-857B-2271391B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618B-F703-4FFD-A0AC-A2B8BF89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4ECE-FEEC-496E-ADB9-7D7D353A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FE16-C3CF-45BD-A713-5AF5378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F94A-91D4-41DA-9BD7-D1EE8A8F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0189-012D-4FC8-A06E-AEB50C66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10C2-2016-4D46-8A64-248FE7D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B3DE-61EC-46C7-9EB5-4E620D1A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F79E-9AA8-4441-9D03-F7923441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BB82-1C98-4E50-BAA4-A9CB7560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12B8-467E-42B6-AAB4-C853D3DB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202F-C965-4A29-903E-AFDBE73A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CF54-796C-4404-86F4-1A3E24F8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141D-349D-4B80-81B2-0CE8DD30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7805-1E5E-4143-85D4-04766AAA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088C-8B6D-4A90-BB5B-9FCF3F9F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A3E4-13AE-42BC-B0E9-00FDCA8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5CDF-A26D-43F3-BCF2-47C77F26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494B-FFD0-4B06-B412-9BD07513AE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Welcome Back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ST - 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20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39640" y="40464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692280"/>
            <a:ext cx="82296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chool Learning Support Team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eturn to your original table. As a school LST, answer the question in the middle box about next step prior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ooking ba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Picture 4" descr="http://1.bp.blogspot.com/-WJyuIJVf-Z8/T8-XsECASbI/AAAAAAAAM-A/Osr1BmXHks0/s320/484.jpg"/>
          <p:cNvPicPr/>
          <p:nvPr/>
        </p:nvPicPr>
        <p:blipFill>
          <a:blip r:embed="rId1"/>
          <a:stretch/>
        </p:blipFill>
        <p:spPr>
          <a:xfrm>
            <a:off x="1116000" y="1628640"/>
            <a:ext cx="6751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ooking forw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Picture 2" descr="D:\Users\lsteele\AppData\Local\Microsoft\Windows\Temporary Internet Files\Content.IE5\3UR26J6N\MP900442518[1].jpg"/>
          <p:cNvPicPr/>
          <p:nvPr/>
        </p:nvPicPr>
        <p:blipFill>
          <a:blip r:embed="rId1"/>
          <a:stretch/>
        </p:blipFill>
        <p:spPr>
          <a:xfrm>
            <a:off x="1171440" y="1600200"/>
            <a:ext cx="6801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UN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3" descr="MCj02958540000[1]"/>
          <p:cNvPicPr/>
          <p:nvPr/>
        </p:nvPicPr>
        <p:blipFill>
          <a:blip r:embed="rId1"/>
          <a:stretch/>
        </p:blipFill>
        <p:spPr>
          <a:xfrm>
            <a:off x="2971800" y="1981080"/>
            <a:ext cx="34178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reating Conne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ing your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learning pl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djustments will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questions do you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2" descr="D:\Users\lsteele\AppData\Local\Microsoft\Windows\Temporary Internet Files\Content.IE5\3UR26J6N\MC900311804[1].wmf"/>
          <p:cNvPicPr/>
          <p:nvPr/>
        </p:nvPicPr>
        <p:blipFill>
          <a:blip r:embed="rId2"/>
          <a:stretch/>
        </p:blipFill>
        <p:spPr>
          <a:xfrm>
            <a:off x="4494240" y="2349360"/>
            <a:ext cx="46497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488360" cy="55450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Student Engagemen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 rot="20025000">
            <a:off x="683280" y="227664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Time On Tas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7"/>
          <p:cNvSpPr/>
          <p:nvPr/>
        </p:nvSpPr>
        <p:spPr>
          <a:xfrm rot="846000">
            <a:off x="4802760" y="2030040"/>
            <a:ext cx="299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Student Compli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8"/>
          <p:cNvSpPr/>
          <p:nvPr/>
        </p:nvSpPr>
        <p:spPr>
          <a:xfrm>
            <a:off x="2589120" y="317664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ood Grad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9"/>
          <p:cNvSpPr/>
          <p:nvPr/>
        </p:nvSpPr>
        <p:spPr>
          <a:xfrm rot="21013800">
            <a:off x="1105920" y="442080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Listening to Teac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Box 10"/>
          <p:cNvSpPr/>
          <p:nvPr/>
        </p:nvSpPr>
        <p:spPr>
          <a:xfrm rot="20025000">
            <a:off x="4492080" y="46069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king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LE &amp; Student Engag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151240" cy="4919760"/>
          </a:xfrm>
          <a:prstGeom prst="rect">
            <a:avLst/>
          </a:prstGeom>
          <a:ln w="0">
            <a:noFill/>
          </a:ln>
        </p:spPr>
      </p:pic>
      <p:sp>
        <p:nvSpPr>
          <p:cNvPr id="564" name="Oval 5"/>
          <p:cNvSpPr/>
          <p:nvPr/>
        </p:nvSpPr>
        <p:spPr>
          <a:xfrm>
            <a:off x="3995640" y="3800520"/>
            <a:ext cx="1224000" cy="780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5" name="Straight Arrow Connector 7"/>
          <p:cNvCxnSpPr/>
          <p:nvPr/>
        </p:nvCxnSpPr>
        <p:spPr>
          <a:xfrm flipH="1">
            <a:off x="5002920" y="2276280"/>
            <a:ext cx="1513800" cy="15246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 Scenario- Match-Up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Content Placeholder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967280" cy="345744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5580000" y="1557360"/>
            <a:ext cx="324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 Scenario to Type of Engagement H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&amp; Deb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Your thoughts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nection between literacy and engag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124080" y="457200"/>
            <a:ext cx="56390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re are no formulas for good teaching…if we want to grow in our practice, we have two primary places to go: to the inner ground from which good teaching comes and to the community of fellow [educators] from whom we can learn about ourselves and our craft.”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Parker Palmer (199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3" descr="MPj03988190000[1]"/>
          <p:cNvPicPr/>
          <p:nvPr/>
        </p:nvPicPr>
        <p:blipFill>
          <a:blip r:embed="rId1"/>
          <a:stretch/>
        </p:blipFill>
        <p:spPr>
          <a:xfrm>
            <a:off x="539640" y="1700280"/>
            <a:ext cx="26146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gging Deep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– Board 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ment – Caribbean A/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2" descr="D:\Users\lsteele\AppData\Local\Microsoft\Windows\Temporary Internet Files\Content.IE5\ET61DMEL\MC900383226[1].wmf"/>
          <p:cNvPicPr/>
          <p:nvPr/>
        </p:nvPicPr>
        <p:blipFill>
          <a:blip r:embed="rId3"/>
          <a:stretch/>
        </p:blipFill>
        <p:spPr>
          <a:xfrm>
            <a:off x="2627280" y="3213000"/>
            <a:ext cx="35290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Wrap U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4" descr="MPj04331650000[1]"/>
          <p:cNvPicPr/>
          <p:nvPr/>
        </p:nvPicPr>
        <p:blipFill>
          <a:blip r:embed="rId3"/>
          <a:stretch/>
        </p:blipFill>
        <p:spPr>
          <a:xfrm>
            <a:off x="4140360" y="2349360"/>
            <a:ext cx="34876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Essential Ques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reflect on your goals you set this year, what needs to be accomplished between now and Jun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need to put in place for next ye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e work you are doing contribute to student suc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7093080" y="54936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5" descr="MCj04079540000[1]"/>
          <p:cNvPicPr/>
          <p:nvPr/>
        </p:nvPicPr>
        <p:blipFill>
          <a:blip r:embed="rId4"/>
          <a:stretch/>
        </p:blipFill>
        <p:spPr>
          <a:xfrm>
            <a:off x="7164360" y="189000"/>
            <a:ext cx="15843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genda:  Going Dee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atching U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9cc00"/>
                </a:solidFill>
                <a:latin typeface="Arial"/>
              </a:rPr>
              <a:t>B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ion and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9cc00"/>
                </a:solidFill>
                <a:latin typeface="Arial"/>
              </a:rPr>
              <a:t>LU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Literacy, Engagement and High School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rap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6443640" y="162864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500720" y="2492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Picture 3" descr="MCj02854660000[1]"/>
          <p:cNvPicPr/>
          <p:nvPr/>
        </p:nvPicPr>
        <p:blipFill>
          <a:blip r:embed="rId1"/>
          <a:stretch/>
        </p:blipFill>
        <p:spPr>
          <a:xfrm>
            <a:off x="4965840" y="1671480"/>
            <a:ext cx="3363840" cy="33782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85960" y="1887120"/>
            <a:ext cx="40082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partner who has the answer to your joke (same #; same col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place to 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 minutes each; Signal; Swi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Arial"/>
              </a:rPr>
              <a:t>Break:  15 minu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Picture 3" descr="MCj00904750000[1]"/>
          <p:cNvPicPr/>
          <p:nvPr/>
        </p:nvPicPr>
        <p:blipFill>
          <a:blip r:embed="rId1"/>
          <a:stretch/>
        </p:blipFill>
        <p:spPr>
          <a:xfrm>
            <a:off x="2743200" y="1905120"/>
            <a:ext cx="36482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 change doesn’t happen…and how to make sure it does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Straight Connector 4"/>
          <p:cNvSpPr/>
          <p:nvPr/>
        </p:nvSpPr>
        <p:spPr>
          <a:xfrm flipV="1">
            <a:off x="3419640" y="1844640"/>
            <a:ext cx="19270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5"/>
          <p:cNvSpPr/>
          <p:nvPr/>
        </p:nvSpPr>
        <p:spPr>
          <a:xfrm rot="20931600">
            <a:off x="3560400" y="10429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7200" y="692280"/>
            <a:ext cx="82296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dividually read the introductory paragraphs and “Reason 1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dividually, answer questions from that section relating to your school. Record your answers on the placem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eet with your thumb partn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ogether, discuss your answers to “Reason 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hen time is “up”, thank your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692280"/>
            <a:ext cx="82296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dividually read “Reason 2”. Individually, answer questions from that section relating to your school. Record your answers on the placem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eet your pointy finger part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ogether, discuss your answers to “Reason 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hen time is “up”, thank your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nd so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ason 3” – “Driving” F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ason 4” – Ring F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ason 5” &amp; Final paragraphs – Pin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1:33:32Z</dcterms:created>
  <dc:creator>Rod</dc:creator>
  <dc:description/>
  <dc:language>en-US</dc:language>
  <cp:lastModifiedBy>cchristiebill</cp:lastModifiedBy>
  <dcterms:modified xsi:type="dcterms:W3CDTF">2013-05-27T22:30:44Z</dcterms:modified>
  <cp:revision>253</cp:revision>
  <dc:subject/>
  <dc:title>Leadership and School Results Silins &amp; Mulford</dc:title>
</cp:coreProperties>
</file>